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416-CB71-4524-8E33-333409C6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07F-C8A5-4E97-A1AC-AF2D1F7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68F-52C4-4A8E-8151-E10276E4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C3C-3DC9-46E1-8F49-5F552479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05D6-EDCC-4642-8DD7-22F80B4F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398E-8DFB-4950-AD1C-C288EEA5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EAFD-1081-40FF-B00C-695F5C5F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0BEC-967A-4C79-8FB7-3802FA19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D783-7C5E-4362-A2B4-4664CF8E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BEFF-25DE-475F-B063-53C84E1A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DCE5-EFE9-4226-AB82-47B1E86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563-3F8B-49C4-9C8A-D7F890EB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208F-313D-413D-ADB9-3D7990C6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E7F3-10E5-4CD7-8346-0288D3A0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1536-64BE-4A58-A36C-E1431E3E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82F0-8622-4E56-B53A-AC98CCE7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1C0D-D66C-4D89-BD15-0D44C67C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A5F-B7F1-4394-A661-1C5C0927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176-F37E-4625-8209-75140F50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A0E-F065-46E7-98ED-BEC30163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6BB-2743-48C8-8ABC-95FA035D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3BC-AB82-4DB0-8621-C064A1A9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05E-B6B1-428F-9EC4-507B1727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650-BF6C-4EED-BA9E-DA041066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96CF-66BC-4354-A79B-FF72E3BA2DEC}" type="slidenum">
              <a:rPr b="0" lang="en-GB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C3AA-70E8-42A8-9A68-E3264502BC7F}" type="slidenum">
              <a:rPr b="0" lang="en-GB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9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377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031" descr=""/>
          <p:cNvPicPr/>
          <p:nvPr/>
        </p:nvPicPr>
        <p:blipFill>
          <a:blip r:embed="rId1"/>
          <a:stretch/>
        </p:blipFill>
        <p:spPr>
          <a:xfrm>
            <a:off x="228600" y="1506600"/>
            <a:ext cx="8686800" cy="385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28600" y="1506600"/>
            <a:ext cx="8686800" cy="385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28600" y="1506600"/>
            <a:ext cx="8686800" cy="385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228600" y="1506600"/>
            <a:ext cx="8686800" cy="38545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5"/>
          <p:cNvSpPr/>
          <p:nvPr/>
        </p:nvSpPr>
        <p:spPr>
          <a:xfrm>
            <a:off x="1447920" y="27432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5" name="QURAAAN%20PRAC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86" name="QURAAAN%20PRACS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4176"/>
                </a:solidFill>
                <a:uFillTx/>
                <a:latin typeface="Benguiat Bk BT"/>
              </a:rPr>
              <a:t>Keep The Following in Mind</a:t>
            </a:r>
            <a:r>
              <a:rPr b="0" lang="en-US" sz="4400" spc="-1" strike="noStrike" u="sng">
                <a:solidFill>
                  <a:srgbClr val="404176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alaam when entering class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nunciation of names correctly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9" name="Picture 4" descr="QURAAN~1"/>
          <p:cNvPicPr/>
          <p:nvPr/>
        </p:nvPicPr>
        <p:blipFill>
          <a:blip r:embed="rId1"/>
          <a:stretch/>
        </p:blipFill>
        <p:spPr>
          <a:xfrm>
            <a:off x="2514600" y="3116160"/>
            <a:ext cx="3657600" cy="345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12:58:10Z</dcterms:created>
  <dc:creator>Zubair Vaid</dc:creator>
  <dc:description/>
  <dc:language>en-US</dc:language>
  <cp:lastModifiedBy>ismail - [2010]</cp:lastModifiedBy>
  <dcterms:modified xsi:type="dcterms:W3CDTF">2013-06-04T15:35:16Z</dcterms:modified>
  <cp:revision>35</cp:revision>
  <dc:subject/>
  <dc:title>QURAAN</dc:title>
</cp:coreProperties>
</file>